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CF9BC-A440-451E-99D2-4243F3E74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9193F-C657-4C4F-9CB2-7133E4C74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6FA32-F6A8-4273-AC00-2FFAAF42D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D47C9-117D-411E-9138-C5D8E2138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22797-DFCE-47CC-BC78-ADEE63364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60F80-2734-4441-A4E0-009D114ED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E7B7F-D85F-4B64-958D-40BCCC923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3E77A-5770-4C3A-84DC-4B43134B5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03068-0097-4D88-8D0C-2E50604E2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69C1D-3C21-444A-B1DB-2CB040B31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9770D-4505-4AC0-B50D-0224301A0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35675-2A15-4021-8DB7-0CDF2CEC6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5B41-57E9-44D8-8FCC-45C7F5A15A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Fundamentals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 by Shakila Sattar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enario and the Main Stakeholders</a:t>
            </a:r>
            <a:endParaRPr b="0" lang="en-US" sz="4000" spc="-1" strike="noStrike">
              <a:solidFill>
                <a:srgbClr val="000000"/>
              </a:solidFill>
              <a:latin typeface="Arial"/>
            </a:endParaRPr>
          </a:p>
        </p:txBody>
      </p:sp>
      <p:sp>
        <p:nvSpPr>
          <p:cNvPr id="44" name=""/>
          <p:cNvSpPr/>
          <p:nvPr/>
        </p:nvSpPr>
        <p:spPr>
          <a:xfrm>
            <a:off x="457200" y="2133720"/>
            <a:ext cx="8305920" cy="422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body now-a-days are linked to internet either for their work purpose or personal life purpose. And to keep their own privacy different security software has been introduc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 new concern over these security software is disrupting human race all over the world. A growing number of programs from smaller firms are aimed at the security market are available to download free of charge. Now the crisis is that maybe you are trying to protect your computer from a little bit of spyware and trying to download a free tool to get rid of but instead how much reliable are those tools that you are downloading? Instead you will find ten or more attacks onto the system! This is a bizarre situation and the primary stake holders, that is the customers are suffering form th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stakeholders are the producers of such free softwares and the people using these to get rid of small problems and creating a big one which is a threat to their privacy lif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or Ethical Issues </a:t>
            </a:r>
            <a:endParaRPr b="0" lang="en-US" sz="4400" spc="-1" strike="noStrike">
              <a:solidFill>
                <a:srgbClr val="000000"/>
              </a:solidFill>
              <a:latin typeface="Arial"/>
            </a:endParaRPr>
          </a:p>
        </p:txBody>
      </p:sp>
      <p:sp>
        <p:nvSpPr>
          <p:cNvPr id="46" name=""/>
          <p:cNvSpPr/>
          <p:nvPr/>
        </p:nvSpPr>
        <p:spPr>
          <a:xfrm>
            <a:off x="457200" y="1179360"/>
            <a:ext cx="8305920" cy="5460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g companies like Symantec, McAfee or Sophos offer huge suites of programs aimed at protecting our computer online. Beside these, as alternates, there  are smaller firms that aim their software to be online and be free of charge (as trial packs). Which one of these would you prefer to purchase and use? The one where you know that there is safety guaranteed or the one where you would download one such free softwares and bring in the risk of computer bugs and creating that uncertainty of self-protection? Exclusion is often the only way society can defend itself, but would one rather leave their social life and be safe than risking ones own privac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ibility is a very important issue for these internet users. If the companies like Symantec, McAfee, etc. are to charge a huge amount of bill where as the others are willing to reduce their charge, does that mean people will be more interested in these softwares rather than going for a safety net? But as you would imagine, some people - for example the manufacturers of products that you pay for - do not think it is such a good idea to trust the family data to a free security produ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838080"/>
            <a:ext cx="7543800" cy="51055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basically it adds up to the fact th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rust the trustees with fa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the trustees with easy accessible capac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ain Problem with an Issue and its suggested Solution  </a:t>
            </a:r>
            <a:endParaRPr b="0" lang="en-US" sz="4000" spc="-1" strike="noStrike">
              <a:solidFill>
                <a:srgbClr val="000000"/>
              </a:solidFill>
              <a:latin typeface="Arial"/>
            </a:endParaRPr>
          </a:p>
        </p:txBody>
      </p:sp>
      <p:sp>
        <p:nvSpPr>
          <p:cNvPr id="49" name=""/>
          <p:cNvSpPr/>
          <p:nvPr/>
        </p:nvSpPr>
        <p:spPr>
          <a:xfrm>
            <a:off x="533520" y="1523880"/>
            <a:ext cx="7924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457200" y="167652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problem we are now facing is that is very difficult to stay safe onli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533520" y="2057400"/>
            <a:ext cx="7924680" cy="457200"/>
          </a:xfrm>
          <a:prstGeom prst="rect">
            <a:avLst/>
          </a:prstGeom>
          <a:gradFill rotWithShape="0">
            <a:gsLst>
              <a:gs pos="0">
                <a:srgbClr val="a3d0fe"/>
              </a:gs>
              <a:gs pos="100000">
                <a:srgbClr val="3399ff">
                  <a:alpha val="9019"/>
                </a:srgbClr>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ying Safe Online</a:t>
            </a:r>
            <a:endParaRPr b="0" lang="en-US" sz="1800" spc="-1" strike="noStrike">
              <a:solidFill>
                <a:srgbClr val="000000"/>
              </a:solidFill>
              <a:latin typeface="Arial"/>
            </a:endParaRPr>
          </a:p>
        </p:txBody>
      </p:sp>
      <p:sp>
        <p:nvSpPr>
          <p:cNvPr id="52" name=""/>
          <p:cNvSpPr/>
          <p:nvPr/>
        </p:nvSpPr>
        <p:spPr>
          <a:xfrm>
            <a:off x="533520" y="2514600"/>
            <a:ext cx="7924680" cy="2133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nti-spyware and anti-virus progra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t least a weekly basis update anti-virus and spyware produc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 a firewall and make sure it is switch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ing sure updates to operating system are install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ing time to educate oneself and family members about the risk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ing computer and staying alert to thre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3T10:02:05Z</dcterms:created>
  <dc:creator>BD03F0045</dc:creator>
  <dc:description/>
  <dc:language>en-US</dc:language>
  <cp:lastModifiedBy>Shakila Sattar</cp:lastModifiedBy>
  <dcterms:modified xsi:type="dcterms:W3CDTF">2006-09-24T08:49:38Z</dcterms:modified>
  <cp:revision>5</cp:revision>
  <dc:subject/>
  <dc:title>Software Fundamentals </dc:title>
</cp:coreProperties>
</file>